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360" y="-9834840"/>
            <a:ext cx="360" cy="210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4A5-E3A4-4BF4-9E0B-4D9ADB52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365-5BD7-4FE4-81EB-D714D414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F9D-6784-49EB-99C5-7E544C8B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F07-D6AB-480A-81B6-22C35D6D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F82C-22D8-4088-9F0C-971A4C03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D9B5-0049-4451-B0A2-7E762A04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0F03-1943-4BB6-9EE4-D655587D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8E01-7068-41C6-B219-210DE01B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4462-B9B4-4556-8939-75D08A8D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B806-1DC2-45C9-87B3-2462C7FF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97F7-3D93-4E69-9CCD-309C41F9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124-EE3B-4FE5-A72F-3EEDFA55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F46E-C2EB-4FF0-A9E9-0381AF7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0B32-E9D5-418F-9BB2-B408D53E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860E-A768-49F1-A248-A6CB1194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56B1-DA3D-4D56-8949-D115C447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715D-1099-48B8-9BEB-14E10368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DF5-1619-4301-9048-CDD7004A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F6B-1C9D-43CA-9A25-DD96C6EE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B78-CF55-431B-A492-4D0A904A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D64-A0B2-4822-89D4-373C6D56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CCC-DEC8-4C87-8E93-A25B2155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A85-8178-44F3-9FD2-02F9B154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A16-389E-4E5A-A909-1C8DBFF6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72D17B-F3EE-4A54-8FCB-32EB9F67076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5BD975-0722-4912-8AC8-961C8DF87AB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Projectos em Animação Sociocultu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848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71680" y="2143080"/>
            <a:ext cx="80010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Diagnóst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alidades socia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inalidades sociais, valores dominantes, estados de opinião que fundamentam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 territori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aracterísticas do ambiente territorial (bairro, cidade, região, país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ados demográficos, económicos, sociais com interesse para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ção do projecto no âmbito territoria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lações entre o território e a finalidade d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 sectori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scrição geral do âmbito de intervenção do projecto (infância, juventude, terceira idade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spectos gerais do âmbito da intervenção que têm importância  para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ção do projecto no sector de incidênci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líticas sociais, educativas e cultura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olíticas dos diferentes agentes relacionadas com os conteúdos e objectivos do projecto; orientações gerais e modelos predominantes; competências das diferentes administrações públ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lações e papel do projecto com as polít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cessidades e pedidos problemátic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studo das necessidades sociais e culturais a que o projecto pretende dar respost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iagnóstico sobre a problemática a intervir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ipos e níveis de procura social em que o projecto se basei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interna da organização que assume o proj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jectória e objectivos passad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istória, experiência anterior, actividades realizadas, imagem e prestígio, implantação territorial, relações institucionais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rutura form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ma jurídica, estrutura, organigrama, pessoas, funções, capacidades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interna da organização que assume o proj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ncionamento intern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cionamento da organização em termos de comunicação, tomada de decisões, gestão e coordenação, sistemas de planificação e controlo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cursos disponíve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isponibilidade de recursos humanos (sua qualificação e experiência), económicos e financeiros, infra-estruturais, de coordenação, de informação e conhecimento, de comunicação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utros elementos internos a ter em cont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Importância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"Quanto melhor conhecermos um território, melhor seremos capazes de realizar um projecto de desenvolvimento bem adaptado. Uma boa identificação dos pontos fortes e fracos da zona (trunfos, vectores de inovação, principais carências, "trancas" ao desenvolvimento, etc.) vai facilitar a construção de uma dinâmica de desenvolvimento duradouro. Este conhecimento vai também permitir uma melhor avaliação dos efeitos do processo de desenvolvimento em curso" (Campagn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et al,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1994: 13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tendências de fundo observáveis no espaço de intervenção no que diz respeito à demografia, economia, alojamento, vida social e cultural, etc.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s demográficas e sociais (idade, sexo e distribuição física da população; taxas de dependência, escolaridade; taxas de nascimento e de mortalidade; emigração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conomia local (estrutura de produção e emprego/desempreg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infra-estruturas físicas e sociais (transportes, telecomunicações, alojamento, de saneamento e saúde pública, hospitais, instituições de ensino, facilidades recreativas e culturais, etc.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categorias da população mais atingidas pelos problemas sociais, económicos e culturai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iniciativas e os projectos que sejam desde já portadores de inov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"obstáculos" que é preciso ultrapassar e, consequentemente, as acções que será necessário realizar nos domínios social, económico, cultur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 envolvente institucional (os organismos intervenientes formal e informalmente constituído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recursos (internos e externos) que será necessário mobilizar para as diferentes acçõ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forças e as fraquezas do conjunto e das diferentes zonas do espaço de intervençã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nimação sociocultural (e o seu planeamento) foram conceptualizados a partir da prática ou a partir duma reflexão centrada na acção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intervenção sociocultural, muito centrada na acção e intervenção activista, descurou, de alguma forma, a programação e planificação prévi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que se faz (etapas) n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 diagnóstico de um território visa estabelecer o que é preciso saber para agir sobre o espaço de intervenção e reunir as informações necessárias para esse fi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m-se os problemas (assume-se que há necessidades e aspectos a melhorar na realidade sociocultural pelo project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alisa-se a evolução prognóstica dos problemas, prevendo-se as repercussões que eles possam vir a ter (Cristovão e Silva, 200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que se faz (etapas) n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rminam-se as causas dos problemas, os factores de risco associados e as inter-relações que existem entre eles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rminam-se as necessidades reais ou sentidas pelos grupos alv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é-diagnóstico (fase exploratória)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agnóstico (recolha e análise da informação)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tabelecimento de prioridades para a intervenção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racterística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ve ser (Cristovão e Silva, 2003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alarg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aprofund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cin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rápi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clar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rresponder às necessidades do próprio processo de planeamen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racterística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ve ter como requisitos importantes (Cristovão e Silva, 2003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descrição preferencialmente quantitativa da situ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conhecimento dos factores que a determina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análise da sua evolução e perspectiv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avaliação — se é ou não satisfató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mo operacionalizar o diagnóstico (Campagne </a:t>
            </a:r>
            <a:r>
              <a:rPr b="0" i="1" lang="en-GB" sz="2000" spc="-1" strike="noStrike">
                <a:solidFill>
                  <a:srgbClr val="006600"/>
                </a:solidFill>
                <a:latin typeface="Verdana"/>
              </a:rPr>
              <a:t>et al</a:t>
            </a: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. (199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r o que é preciso saber para agir sobre uma realidade sociocultur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cidir quais são as metodologias mais bem adaptadas para reunir as informações correspondent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Realizar o processo concreto de recolha da informaçã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fectuar um tratamento e análise dos dados recolhido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Traduzir estas conclusões – ou seja o diagnóstico - em componentes básicas de uma estratégia de interven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orquê o diagnóstico participado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tirar pleno partido dos conhecimentos, competências, dinâmicas e recursos existentes a nível loc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obter a adesão e o apoio dos actores locais nos esforços conduzidos para a abordagem dos problemas essenciais e soluções possívei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encorajar a "apropriação" local dos projectos de modo a que o desenvolvimento possa ser duradour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Quem deve ser incluído no diagnóstico participado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grupos específicos a envolver são determinados pelo contexto social e cultural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responsáveis políticos, económicos e associativos locais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membros dos grupos de interesses económicos, sociais e culturais locais: associações de agricultores, de jovens, de idosos, grupos profissionais, etc.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população no seu conjunto: no trabalho, em casa, na aldeia, no bairro, etc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Técnicas quantitativas e qualitativas de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quisa documen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quéritos por question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ntrevis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quisa de Consens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Brainstorming (produção de ideias, sem crítica e avaliação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écnica de grupo nominal (agregar julgamentos com base na racionalidade/criatividade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écnica de Delphi (consenso sobre um tópico, conduzido através de via postal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proximação a informantes-chave (entrevista pessoal a experts)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Técnicas quantitativas e qualitativas de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problem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o grupo al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parcer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enquadramento instituc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SW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rna-se necessário conciliar a resposta pontual e próxima com a programação e planificação, que permita trabalhar com uma determinada perspectiva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preciso encontrar alguns referentes que permitam edificar uma metodologia de elaboração de projectos de animação sociocultural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facilitar a compreensão e a utilização da informação obtida, ela pode organizar-se na matriz SWO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É uma técnica sintetizadora e simplificadora do diagnóstic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a análise SWOT (strenghts, weaknesses, opportunities and threats) explicitam-se quais os pontos fortes e fracos duma realidade social específica e as oportunidades e ameaças do meio envolvente a essa realida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oportunidades e os pontos fortes correspondem aos aspectos positivos da realidade a melhor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ameaças e os pontos fracos correspondem aos aspectos negativos da realidade a melhorar (constrangimentos políticos e sociais, deficiências estruturais e na dotação de recursos, etc.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ende de juízos de valor por parte do analista, que representa mais ou menos explicitamente os interesses específicos locais e/ou extra-locai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ângulo 3"/>
          <p:cNvSpPr/>
          <p:nvPr/>
        </p:nvSpPr>
        <p:spPr>
          <a:xfrm>
            <a:off x="928800" y="2714760"/>
            <a:ext cx="7215120" cy="32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ângulo 4"/>
          <p:cNvSpPr/>
          <p:nvPr/>
        </p:nvSpPr>
        <p:spPr>
          <a:xfrm>
            <a:off x="1785960" y="335772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Stren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ângulo 7"/>
          <p:cNvSpPr/>
          <p:nvPr/>
        </p:nvSpPr>
        <p:spPr>
          <a:xfrm>
            <a:off x="4857840" y="335772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Weakn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ângulo 8"/>
          <p:cNvSpPr/>
          <p:nvPr/>
        </p:nvSpPr>
        <p:spPr>
          <a:xfrm>
            <a:off x="5214960" y="2857680"/>
            <a:ext cx="22147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spectos neg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ângulo 9"/>
          <p:cNvSpPr/>
          <p:nvPr/>
        </p:nvSpPr>
        <p:spPr>
          <a:xfrm>
            <a:off x="2143080" y="2857680"/>
            <a:ext cx="21430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spectos posi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ângulo 10"/>
          <p:cNvSpPr/>
          <p:nvPr/>
        </p:nvSpPr>
        <p:spPr>
          <a:xfrm>
            <a:off x="1785960" y="46432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Opportun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ângulo 11"/>
          <p:cNvSpPr/>
          <p:nvPr/>
        </p:nvSpPr>
        <p:spPr>
          <a:xfrm>
            <a:off x="4857840" y="46432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Thr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ângulo 12"/>
          <p:cNvSpPr/>
          <p:nvPr/>
        </p:nvSpPr>
        <p:spPr>
          <a:xfrm rot="16200000">
            <a:off x="857160" y="3714840"/>
            <a:ext cx="9288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ângulo 13"/>
          <p:cNvSpPr/>
          <p:nvPr/>
        </p:nvSpPr>
        <p:spPr>
          <a:xfrm rot="16200000">
            <a:off x="821160" y="4964400"/>
            <a:ext cx="10004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Força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satisfatório de equipamentos para a prática desportiv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lítica municipal de apoio ao fomento da actividade desportiv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pulação jove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bundância de recursos hídric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celho atractivo em termos culturais e de laze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46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46640" indent="-56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Força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ctividades económicas com forte probabilidade de expans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sponibilidade por parte do município em garantir a rede de transportes fora do horários do período escol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nâmica já existente do apoio domiciliár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razoável de colectividades no concelho, particularmente direccionadas para a actividade desportiva das camadas mais joven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Potencialidade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xistência de fundos nacionais disponíveis para apoio a projectos de qualificação em novas tecnologi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gislação favorável ao fomento do associativism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do INH para recuperação e construção habitacion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Potencialidade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centivo ao Arrendamento Jovem (IA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lano Regional de Empreg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Agro-Agris, Ruris; Leader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nacionais de apoio à Educação e Formação ao longo da vida para adult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Debilidade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significativo de habitações degradad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raco espírito empresari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pulação pouco qualificad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minuição da taxa de natalida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endência física, psicológica e financeira da população idos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levado desemprego feminin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Debilidade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existência de Centros de Noi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Apoio Domiciliário adequado aos vários níveis de dependênci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iniciativa por parte da quase totalidade das associações do concelh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actividades para os jovens e idos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usência de respostas para desempregados e potenciais desempregad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Ameaça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minuição de fundos disponíveis para apoio a projectos de inclusão soci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gislação restritiva sobre contratação de pesso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Vantagens de localização para empresas oferecidas por municípios adjace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juntura económico-social desfavoráve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lítica de Imigração pouco favorável à integração de estrangeir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á possível estabelecer uma metodologia própria (Sempere, 2004)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Os campos de acção, os destinatários, os territórios, as organizações são muito diversa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s características individuais e grupais dos recursos humanos dum projecto, nos seus diferentes níveis, têm um peso significativo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s diferentes características das organizações (forma jurídica, finalidade social, etc.) condicionam os elementos de constituição duma metodologia e uma forma específica de concretizar as acçõe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Ameaça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Incentivos Fiscais ou à Criação de Empreg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medidas nacionais de incentivo ao desenvolvimento do associativism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racos apoios à fixação de empresas no interio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apacidade de atracção de população activa local pelo litoral e grandes centros urban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200016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r vezes, um facto ou fenómeno social pode ter, simultaneamente, aspectos positivos e aspectos negativos (dualismo estrutur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Uma infra-estrutura como uma auto-estrada origina efeitos positivos e negativos, normalment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 SWOT não deve ser preenchida de forma aleatória; deve-se começar pelo quadrante das fraquezas, seguindo-se o quadrante das forças, das oportunidades e das ameaç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quadrantes não devem ser preenchidos apenas como listagens de informações sem relação directa; a cada ponto fraco deve-se associar um ou mais pontos fortes que o enfrentem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; pode-se também ter a mesma força ligada a mais do que uma fraquez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presentação da situação do project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stão central e ideia original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ção de todos os problemas individua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Validação ou hierarquização dos problemas expost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grupamentos dos problemas por áreas problemát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Identificação das relações causa-efeito entre esses problem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sulta uma listagem completa dos problemas relevantes e a sua hierarquizaçã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lacionar os problemas uns com os outros e organizá-los em grupos apropriados com titulações específic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trução de árvores de problem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É uma representação gráfica da relação de causalidade entre situações a melhorar, problemas e necessidades encontradas, de forma a que seja possível perceber o impacto da resolução de determinadas situações problemáticas noutras situações problemáticas (Pena, 2002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ter uma listagem o mais exaustiva possível de situações a melhorar/problemas do sistema em que a intervenção vai decorr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nvolver os detentores de conhecimento sobre essa realidade, maximizar a participação e o envolvimento no levantamento de problemas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blema é toda a situação actual da qual se perspectiva uma situação desejada, uma melhoria possível” (Pena, 2002: 10); são todas as situações que não estão como o desejado pelos elementos do campo de intervenção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s ferramentas a usar envolvem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uniões formais e estruturadas “brainstorming”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utras reuniões estruturad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uniões informai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entrevistas estruturad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entrevistas informais  e inquéritos (Pena, 2002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levantados de forma exaustiva devem ser filtrados antes de ser incluídos na listagem: relativizar e suprimir os que não têm significado real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êm de ser concretos e reais e não relacionados com juízos de valor, suposições ou personalizações da realidade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êm de ser sustentados e ter relevância e impacto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devem ser formulados pela negativa (Pena, 2002); por exemplo, excesso de desemprego é melhor do que apenas desemprego; há sempre desemprego; o problema é se ele é considerado, em termos comparativos, excessivo ou n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devem ser enunciados de forma sintética evitando situações como: a formulação de dois problemas numa só formulação ou a formulação do problema com a medida já incluída (Pena, 2002); por exemplo, excesso de erros na utilização duma máquina por falta de formação; o melhor é retirar da formulação por falta de form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trução de árvores de problem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dentificação do problema central em cada uma dos clusters de problemas (tronco da árvore de problemas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rganização dos restantes problemas da nuvem em relação ao problema central; saber se são causas ou efeitos do problema central (raízes e ramos da árvore de problemas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que estão na parte superior da árvore resultam directamente dos que estão imediatamente abaixo; resolvendo os problemas abaixo podemos esperar um impacto na resolução dos que estão acim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elaboração de projectos está condicionada pelos seguintes níveis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Pessoal-Profissional (contribuições individuais das pessoas e características diferenciadas dos profissionais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Grupal-Equipa (aspectos criativos e ideológicos, critérios e características da equipa)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nstitucional-Organizacional (cultura organizativa, opções e objectivos das organizações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Formal-Legal (adequação às normas administrativas e às formas jurídica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9680" y="1785600"/>
            <a:ext cx="800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ângulo 4"/>
          <p:cNvSpPr/>
          <p:nvPr/>
        </p:nvSpPr>
        <p:spPr>
          <a:xfrm>
            <a:off x="178596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ângulo 9"/>
          <p:cNvSpPr/>
          <p:nvPr/>
        </p:nvSpPr>
        <p:spPr>
          <a:xfrm>
            <a:off x="7072200" y="2357280"/>
            <a:ext cx="92880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Efe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ângulo 13"/>
          <p:cNvSpPr/>
          <p:nvPr/>
        </p:nvSpPr>
        <p:spPr>
          <a:xfrm>
            <a:off x="500040" y="4572000"/>
            <a:ext cx="10000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Caus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3857760" y="3786120"/>
            <a:ext cx="1928520" cy="7858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blema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ângulo 15"/>
          <p:cNvSpPr/>
          <p:nvPr/>
        </p:nvSpPr>
        <p:spPr>
          <a:xfrm>
            <a:off x="478620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ângulo 17"/>
          <p:cNvSpPr/>
          <p:nvPr/>
        </p:nvSpPr>
        <p:spPr>
          <a:xfrm>
            <a:off x="635796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ângulo 18"/>
          <p:cNvSpPr/>
          <p:nvPr/>
        </p:nvSpPr>
        <p:spPr>
          <a:xfrm>
            <a:off x="4786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ângulo 19"/>
          <p:cNvSpPr/>
          <p:nvPr/>
        </p:nvSpPr>
        <p:spPr>
          <a:xfrm>
            <a:off x="142884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Conexão recta unidireccional 21"/>
          <p:cNvCxnSpPr/>
          <p:nvPr/>
        </p:nvCxnSpPr>
        <p:spPr>
          <a:xfrm flipH="1" flipV="1">
            <a:off x="3214800" y="3642840"/>
            <a:ext cx="6433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Conexão recta unidireccional 22"/>
          <p:cNvCxnSpPr/>
          <p:nvPr/>
        </p:nvCxnSpPr>
        <p:spPr>
          <a:xfrm flipV="1">
            <a:off x="5929200" y="3857040"/>
            <a:ext cx="5724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Conexão recta unidireccional 24"/>
          <p:cNvCxnSpPr/>
          <p:nvPr/>
        </p:nvCxnSpPr>
        <p:spPr>
          <a:xfrm flipV="1">
            <a:off x="5643720" y="3785400"/>
            <a:ext cx="143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Conexão recta unidireccional 26"/>
          <p:cNvCxnSpPr/>
          <p:nvPr/>
        </p:nvCxnSpPr>
        <p:spPr>
          <a:xfrm flipV="1">
            <a:off x="3214800" y="3071160"/>
            <a:ext cx="3578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Conexão recta unidireccional 28"/>
          <p:cNvCxnSpPr/>
          <p:nvPr/>
        </p:nvCxnSpPr>
        <p:spPr>
          <a:xfrm flipV="1">
            <a:off x="2498760" y="2999880"/>
            <a:ext cx="21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Conexão recta unidireccional 33"/>
          <p:cNvCxnSpPr/>
          <p:nvPr/>
        </p:nvCxnSpPr>
        <p:spPr>
          <a:xfrm flipV="1">
            <a:off x="5357880" y="2999880"/>
            <a:ext cx="21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Rectângulo 34"/>
          <p:cNvSpPr/>
          <p:nvPr/>
        </p:nvSpPr>
        <p:spPr>
          <a:xfrm>
            <a:off x="1928880" y="4500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ângulo 35"/>
          <p:cNvSpPr/>
          <p:nvPr/>
        </p:nvSpPr>
        <p:spPr>
          <a:xfrm>
            <a:off x="5643720" y="450072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ângulo 36"/>
          <p:cNvSpPr/>
          <p:nvPr/>
        </p:nvSpPr>
        <p:spPr>
          <a:xfrm>
            <a:off x="71424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ângulo 37"/>
          <p:cNvSpPr/>
          <p:nvPr/>
        </p:nvSpPr>
        <p:spPr>
          <a:xfrm>
            <a:off x="214308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ângulo 38"/>
          <p:cNvSpPr/>
          <p:nvPr/>
        </p:nvSpPr>
        <p:spPr>
          <a:xfrm>
            <a:off x="4500720" y="171468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exão recta unidireccional 40"/>
          <p:cNvCxnSpPr/>
          <p:nvPr/>
        </p:nvCxnSpPr>
        <p:spPr>
          <a:xfrm flipV="1">
            <a:off x="5285160" y="2214000"/>
            <a:ext cx="25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Rectângulo 41"/>
          <p:cNvSpPr/>
          <p:nvPr/>
        </p:nvSpPr>
        <p:spPr>
          <a:xfrm>
            <a:off x="371484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ângulo 42"/>
          <p:cNvSpPr/>
          <p:nvPr/>
        </p:nvSpPr>
        <p:spPr>
          <a:xfrm>
            <a:off x="6000840" y="51436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ângulo 43"/>
          <p:cNvSpPr/>
          <p:nvPr/>
        </p:nvSpPr>
        <p:spPr>
          <a:xfrm>
            <a:off x="6786720" y="571500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Conexão recta unidireccional 53"/>
          <p:cNvCxnSpPr/>
          <p:nvPr/>
        </p:nvCxnSpPr>
        <p:spPr>
          <a:xfrm flipV="1">
            <a:off x="3285720" y="4214520"/>
            <a:ext cx="5007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Conexão recta unidireccional 58"/>
          <p:cNvCxnSpPr/>
          <p:nvPr/>
        </p:nvCxnSpPr>
        <p:spPr>
          <a:xfrm flipH="1" flipV="1">
            <a:off x="5785560" y="4285440"/>
            <a:ext cx="143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Conexão recta unidireccional 60"/>
          <p:cNvCxnSpPr/>
          <p:nvPr/>
        </p:nvCxnSpPr>
        <p:spPr>
          <a:xfrm flipH="1" flipV="1">
            <a:off x="7000200" y="4928400"/>
            <a:ext cx="143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Conexão recta unidireccional 61"/>
          <p:cNvCxnSpPr/>
          <p:nvPr/>
        </p:nvCxnSpPr>
        <p:spPr>
          <a:xfrm flipH="1" flipV="1">
            <a:off x="7429320" y="5500080"/>
            <a:ext cx="143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Conexão recta unidireccional 62"/>
          <p:cNvCxnSpPr/>
          <p:nvPr/>
        </p:nvCxnSpPr>
        <p:spPr>
          <a:xfrm flipH="1" flipV="1">
            <a:off x="3357000" y="4785480"/>
            <a:ext cx="57204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Conexão recta unidireccional 64"/>
          <p:cNvCxnSpPr/>
          <p:nvPr/>
        </p:nvCxnSpPr>
        <p:spPr>
          <a:xfrm flipV="1">
            <a:off x="2711880" y="500184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Conexão recta unidireccional 66"/>
          <p:cNvCxnSpPr/>
          <p:nvPr/>
        </p:nvCxnSpPr>
        <p:spPr>
          <a:xfrm flipV="1">
            <a:off x="1643040" y="5000040"/>
            <a:ext cx="35784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ângulo 4"/>
          <p:cNvSpPr/>
          <p:nvPr/>
        </p:nvSpPr>
        <p:spPr>
          <a:xfrm>
            <a:off x="142884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572000" y="1857240"/>
            <a:ext cx="1928880" cy="7858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blema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Conexão recta unidireccional 33"/>
          <p:cNvCxnSpPr/>
          <p:nvPr/>
        </p:nvCxnSpPr>
        <p:spPr>
          <a:xfrm flipH="1" flipV="1">
            <a:off x="5357520" y="2714040"/>
            <a:ext cx="7149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Rectângulo 34"/>
          <p:cNvSpPr/>
          <p:nvPr/>
        </p:nvSpPr>
        <p:spPr>
          <a:xfrm>
            <a:off x="192888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ângulo 36"/>
          <p:cNvSpPr/>
          <p:nvPr/>
        </p:nvSpPr>
        <p:spPr>
          <a:xfrm>
            <a:off x="35712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ângulo 37"/>
          <p:cNvSpPr/>
          <p:nvPr/>
        </p:nvSpPr>
        <p:spPr>
          <a:xfrm>
            <a:off x="178596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3" name="Rectângulo 44"/>
          <p:cNvSpPr/>
          <p:nvPr/>
        </p:nvSpPr>
        <p:spPr>
          <a:xfrm>
            <a:off x="307188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5" name="Rectângulo 46"/>
          <p:cNvSpPr/>
          <p:nvPr/>
        </p:nvSpPr>
        <p:spPr>
          <a:xfrm>
            <a:off x="42876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Conexão recta unidireccional 66"/>
          <p:cNvCxnSpPr/>
          <p:nvPr/>
        </p:nvCxnSpPr>
        <p:spPr>
          <a:xfrm flipV="1">
            <a:off x="928800" y="371448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em destaque um problema que resulta da existência de todos os outros (problema centra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, entre os restantes problemas, os que contribuem directamente para a existência do problema central (os que estão no nível imediatamente abaixo – de primeiro níve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os problemas que contribuem directamente para a existência dos problemas do primeiro nível (problemas de segundo níve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todos os problemas que contribuem directamente para os já colocados, até esgotar todos os problemas da list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erminais são aqueles que não têm nenhum problema a contribuir para a sua existência; são os que resolvidos e atenuados contribuem para a resolução dos que estão nos níveis acim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ode haver problemas que não constam da lista inicial, mas  que ligam a árvore e que devem ser acrescentad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643040"/>
            <a:ext cx="8001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s bifurcações devem existir no sentido descendente e nunca no sentido ascendente (no caso de haver uma situação problemática a contribuir para a existência de dois problemas, essa contribuição deve ser reduzida a uma relação causa-efeito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er apenas um problema a contribuir para a existência dum outro problema é uma situação que requer uma análise mais aprofundada (podem ter-se formulado falsos problemas, pode haver problemas que não foram considerados na lista inicial, pode haver duas formulações distintas do mesmo problem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parecer um grande número de problemas a contribuir para a existência dum só (pode haver problemas que não sejam importantes e que possam ser retirado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ângulo 4"/>
          <p:cNvSpPr/>
          <p:nvPr/>
        </p:nvSpPr>
        <p:spPr>
          <a:xfrm>
            <a:off x="1285920" y="3286080"/>
            <a:ext cx="142884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ficiente rentabilização do serviço pres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4572000" y="1785960"/>
            <a:ext cx="2357280" cy="114300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erviço prestado aquém do possí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aixa produtivid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Conexão recta unidireccional 33"/>
          <p:cNvCxnSpPr/>
          <p:nvPr/>
        </p:nvCxnSpPr>
        <p:spPr>
          <a:xfrm flipV="1">
            <a:off x="6071040" y="292860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9" name="Rectângulo 34"/>
          <p:cNvSpPr/>
          <p:nvPr/>
        </p:nvSpPr>
        <p:spPr>
          <a:xfrm>
            <a:off x="192888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Falta de informação  de apoio à ven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ângulo 36"/>
          <p:cNvSpPr/>
          <p:nvPr/>
        </p:nvSpPr>
        <p:spPr>
          <a:xfrm>
            <a:off x="35712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ificuldade em implementar a disciplina n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ângulo 37"/>
          <p:cNvSpPr/>
          <p:nvPr/>
        </p:nvSpPr>
        <p:spPr>
          <a:xfrm>
            <a:off x="178596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arências no perfil da chef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3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6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Rectângulo 44"/>
          <p:cNvSpPr/>
          <p:nvPr/>
        </p:nvSpPr>
        <p:spPr>
          <a:xfrm>
            <a:off x="3000240" y="3286080"/>
            <a:ext cx="128592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Reduzida motivação para 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1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2" name="Rectângulo 46"/>
          <p:cNvSpPr/>
          <p:nvPr/>
        </p:nvSpPr>
        <p:spPr>
          <a:xfrm>
            <a:off x="42876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á organização dos recursos hum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3" name="Conexão recta unidireccional 66"/>
          <p:cNvCxnSpPr/>
          <p:nvPr/>
        </p:nvCxnSpPr>
        <p:spPr>
          <a:xfrm flipV="1">
            <a:off x="857160" y="3642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4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soa ou grupo que possui relações com o projecto ou é afectado por ele – grupos alvo, organizações parceiras, entidades financiadoras, etc.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preciação preliminar ex-ante por parte do promotor do projecto e da equipa de planeamen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, de forma participada, quais os stakeholders relevantes e envolvê-los no processo de planeamen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s suas perspectivas devem ser cuidadosamente consideradas  na formulação preliminar dos objectivos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ve ser um sumário, para cada um dos stakeholders identificad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maior ou menor interesse na concretização d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contributo (positivo ou negativo) prováve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a sua importância para o sucesso d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grau de influência n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s efeitos prováveis do projecto para os seus interes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hecer os processos de tomada de decisão dos stakehold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terminar a estratégia de participação e envolvimento dos stakeholders no processo de planeamento e avaliação – plano de comunicação com os stakeholder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sde a partilha de informação até à sua capacitação e emancipaçã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sde a realização de reuniões de informação, passando por sessões de trabalho e workshops e até à publicação de boletins, newsletter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Matriz de análise de stakeholders</a:t>
            </a:r>
            <a:r>
              <a:rPr b="0" lang="en-GB" sz="1800" spc="-1" strike="noStrike">
                <a:solidFill>
                  <a:srgbClr val="00664d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Schiefer </a:t>
            </a:r>
            <a:r>
              <a:rPr b="0" i="1" lang="pt-PT" sz="1800" spc="-1" strike="noStrike">
                <a:solidFill>
                  <a:srgbClr val="00664d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, 2006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42960" y="2658960"/>
          <a:ext cx="7858080" cy="3200400"/>
        </p:xfrm>
        <a:graphic>
          <a:graphicData uri="http://schemas.openxmlformats.org/drawingml/2006/table">
            <a:tbl>
              <a:tblPr/>
              <a:tblGrid>
                <a:gridCol w="1571760"/>
                <a:gridCol w="1571400"/>
                <a:gridCol w="1571760"/>
                <a:gridCol w="1571400"/>
                <a:gridCol w="1571760"/>
              </a:tblGrid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upos de stakehold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esses em jo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eito do projecto sobre os seus interess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a importância para o proj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a influência no proj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311" name="Rectângulo 6"/>
          <p:cNvSpPr/>
          <p:nvPr/>
        </p:nvSpPr>
        <p:spPr>
          <a:xfrm>
            <a:off x="642960" y="5929200"/>
            <a:ext cx="7858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++ a – (muito significativo a muito pouco significativo); 5 a D (muito importante/ grande influência a desconhecid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ão existe uma metodologia própria aplicável, em termos gerais, a todos os campos e possibilidades da animação sociocultural (Sempere, 200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á, porém, esforços de sistematização (linhas argumentais de elaboraçã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profissionais, as equipas e as organizações têm de edificar as suas próprias formas de acção e de decidir quais as opções metodológicas a tomar (Sempere, 200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Matriz de análise de stakeholders</a:t>
            </a:r>
            <a:r>
              <a:rPr b="0" lang="en-GB" sz="1800" spc="-1" strike="noStrike">
                <a:solidFill>
                  <a:srgbClr val="00664d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Schiefer </a:t>
            </a:r>
            <a:r>
              <a:rPr b="0" i="1" lang="pt-PT" sz="1800" spc="-1" strike="noStrike">
                <a:solidFill>
                  <a:srgbClr val="00664d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, 2006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ângulo 6"/>
          <p:cNvSpPr/>
          <p:nvPr/>
        </p:nvSpPr>
        <p:spPr>
          <a:xfrm>
            <a:off x="642960" y="5929200"/>
            <a:ext cx="7858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inserir os stakeholders nas células apropriada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57160" y="2786040"/>
          <a:ext cx="7215120" cy="2854440"/>
        </p:xfrm>
        <a:graphic>
          <a:graphicData uri="http://schemas.openxmlformats.org/drawingml/2006/table">
            <a:tbl>
              <a:tblPr/>
              <a:tblGrid>
                <a:gridCol w="1836720"/>
                <a:gridCol w="1235160"/>
                <a:gridCol w="1257480"/>
                <a:gridCol w="1442880"/>
                <a:gridCol w="144288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do projecto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po de participação e envolvim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ilha de inform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aboração (partilha do control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pacitação (transferência do control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nóst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am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ção e monitoriz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ali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grupos alv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necessária em especial em projectos de intervenção social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mo é que os grupos alvo percepcionam os seus problemas, que mudanças desejam e o seu raio de ac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mo é que a estratégia pensada para o projecto se adequa às necessidades sentidas e aos pontos fortes dos grupos alv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as diferenças sociais dentro da população e o grau de variação da capacidade dos diferentes grupos sociais para avança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grupos alv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necessária em especial em projectos de intervenção social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as percepções do grupo alvo e as suas atitudes face aos outros stakehold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os riscos e impactes duma estratégia ou ideia de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Todos os projectos têm um ambiente institucional que os envolve; há outras organizações que trabalham na mesma área de intervenção, que têm um impacte no projecto e que são afectados por este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de ser realizada com o modelo do “arco-íri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siste num número de semi-círculos concêntricos (níveis), começando com a unidade de análise mais pequena no centr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de ser realizada com o modelo do “arco-íri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cluem-se depois as unidades (instituições e grupos relevantes), atendendo à sua proximidade geográfica do grupo alvo; são colocadas nos semi-círculos apropriados para mostrar essa maior ou menor proxim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 modelo mostra ainda a posição da organização/unidade de análise em relação às instituições estatais e privadas; estas são separadas e colocadas em cada um dos lados dos semi-círculos (Estado no lado esquerdo e privados no lado direito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ois de construída a estrutura e localizadas as organizações analisam-se as ligações que existem entre elas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dentificam-se os fluxos de recursos, informação e autor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comunica com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troca informações com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dá directrizes a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oferece/recebe recursos e de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de animação sociocultural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uma forma de exteriorização de ideias, capacidades e interpretações duma situação determinad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o resultado formalizado dum processo de reflexão que permite conhecer e apresentar as opções de intervenção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monstra uma capacidade de previsão e de antecipação a uma situação analisad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uma ferramenta de gestão e um instrumento de trabalho em equipa que permite organizar a execução e realizar um processo de avaliação  complet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iniciais/bases contextuais/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nto de partida, antecedentes, aspectos contextuais e situação interna da organizaçã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onto de partida refere-se às condições encontradas no início da elaboração do projecto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É preciso estudar em pormenor o conjunto de situações que motivaram e influíram na tomada de consciência da necessidade duma interven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vem analisar-se os condicionalismos positivos e negativos do ambiente envolvent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6760" y="1785600"/>
            <a:ext cx="800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iniciais/bases contextuais/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nto de partida, antecedentes, aspectos contextuais e situação interna da organizaçã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rojecto não se pode conceber à margem da realidade da organização que o vai desenvolver; é necessário detectar os limites e as possibilidades desta para adequar o projecto à sua realidade e ponderar os conteúdos, os objectivos e as prioridades da intervenção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rocesso de análise interna da organização permite-nos definir os pontos fortes e fracos dessa organização, e a tê-los em conta na elaboração, gestão e avaliação do proj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Cajó</cp:lastModifiedBy>
  <dcterms:modified xsi:type="dcterms:W3CDTF">2009-02-27T12:43:59Z</dcterms:modified>
  <cp:revision>525</cp:revision>
  <dc:subject/>
  <dc:title>Introdução às Políticas Agrárias</dc:title>
</cp:coreProperties>
</file>